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17A-886C-4130-BD4A-925B69D3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38F2-54CB-4E55-A7A0-23FD6AF4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393-887A-4634-8C34-BB72CE04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00A-0F3A-4CB1-8452-00B4D9E7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95F-87CF-4E48-AF91-BBB5A6F0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D8E-8A48-47E7-BE28-49C37A50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F05-98CA-4471-B46E-089A0CFB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F7F-DB64-4FCF-A087-F01B58B7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864-827C-4C5E-B73F-7D0875BC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AE4-3BB4-4AF6-BCE9-2A7FC7D9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34C-16FA-4512-8E6E-52FC99D4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8CD-C96B-4714-BA61-BE5E5006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FFDB-EE8D-4C6F-A3D4-5902E4FD6C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gre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ithin a few minutes or within the first h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with con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es (Pheochromocytoma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few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hypertensive heart failure (pulmonary edema I-II deg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e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00" y="112500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457200" y="2236680"/>
            <a:ext cx="8229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y in hypertensive crisis (vasodilators or adrenergic inhib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5002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epend solely on the degree of therapeutic urgency and not on the pressure 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eclampsia with convulsion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regulation of arterial hypertension, as well as the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of arterial hypertension,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ulmonary edema, aortic dissection → decrease in 15 to 3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→ decrease by 25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2-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decrease to a value of 170-180/100mmHg during 6-12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eutic strategies in hypertensive patients with acute stroke and cerebrovascula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5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788000" y="5229360"/>
            <a:ext cx="228600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2286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- parenteral or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antage of parenteral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 the easy and quick monitoring of the hypotensive effect, but also in the method of administration in life-threatening patients (impossibility of per os administration, impaired conscious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 nitroprus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(Medicine of choice), cerebral hemorrhage or infarction, acute left ventricular weakness, acute coronary insufficiency, aneurysm dissection, catecholamine crisis, head injury, after surgery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oglyceri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LV weakness, acute coronary insufficiency, post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pid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blocker of postsynaptic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1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ergic receptors (reduces peripheral vascular resistance), central sympatholytic effect, manifested in 2 to 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V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alazine, Diaz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, extensive burns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5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tolamin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ta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, acute coronary insufficiency, burns, postoperative, malignant hypertension (not in broncho-obstruction, AV block, SA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 crisis-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dden and larg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blood pressure values in a short time interva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currently, the absolute measured blood pressure values are less important for defining the hypertensive crisis itself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840" y="1061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o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256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opril, enalapril, rami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i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edi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532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recommendations for therapeutic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557360"/>
          <a:ext cx="7416720" cy="5754600"/>
        </p:xfrm>
        <a:graphic>
          <a:graphicData uri="http://schemas.openxmlformats.org/drawingml/2006/table">
            <a:tbl>
              <a:tblPr/>
              <a:tblGrid>
                <a:gridCol w="2112840"/>
                <a:gridCol w="2651400"/>
                <a:gridCol w="2652480"/>
              </a:tblGrid>
              <a:tr h="3736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Medicine of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ontrain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isch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e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Hypertensive encephal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cute left ventricular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ortic dis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Eclamp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troglycer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-hy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therapy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, it is no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989000"/>
          <a:ext cx="8275680" cy="4268880"/>
        </p:xfrm>
        <a:graphic>
          <a:graphicData uri="http://schemas.openxmlformats.org/drawingml/2006/table">
            <a:tbl>
              <a:tblPr/>
              <a:tblGrid>
                <a:gridCol w="4426200"/>
                <a:gridCol w="3849480"/>
              </a:tblGrid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lower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n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e tachycardia, arrhythmia, arterial hyperten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with sublingual nifedip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"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requirements of the myocardium for 02, cerebral hypoper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every crisis with parenteral furosem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lyte imba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o not treat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wi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N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intracranial 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precautions in the treatment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 ly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lderly, start with a lower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t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s of a good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am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sed in the therapy of hypertensive cri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 pressure is not lowered too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titratable and that the hypotensive effect can be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contraindications for various clinical manifestations of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significant interactions with other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ide effects are rare and m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hange in definition and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ymptomat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 called chronic unrecognized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h signs of vascular damage to vital orga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that have essent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in normotensive patients (stres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 onset, progressiv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anxiety, fear, suff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(headache, nausea, vom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dema, decreased ren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, 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 and 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mediated organ damage (HMOD) refers to structural or functional changes in arteries or in target organs that can be present in long-standing hypertension, but it can be also found in naive never treated patients, or in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emergency are situations in which severe hypertension (grade 3) is associated with acute HMOD, which is often life-threatening and requires immediate but careful intervention to lower BP, usually with intravenous 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and magnitude of an increase in BP must be at least important as the absolute level of BP in determining the magnitude of orga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presentation 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ension emergency are patients with malignant hypertension (fundoscopic chang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lame haemorrhages with/or papilloedema, microangiopathy, and can be associated with encephalopathy, acute hearth failure, and acute deterioration in renal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ost important rules in the treatment of hypertensiv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blood pressure regulation depends on the degree of therapeutic u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51:59Z</dcterms:created>
  <dc:creator>Registered User</dc:creator>
  <dc:description/>
  <dc:language>en-US</dc:language>
  <cp:lastModifiedBy>Violeta</cp:lastModifiedBy>
  <dcterms:modified xsi:type="dcterms:W3CDTF">2023-08-19T17:35:44Z</dcterms:modified>
  <cp:revision>85</cp:revision>
  <dc:subject/>
  <dc:title>Hipertenzivna kriza-hitno ili urgentno stan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